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move the slide</a:t>
            </a:r>
            <a:endParaRPr b="0" lang="en-US" sz="4200" spc="-1" strike="noStrike">
              <a:solidFill>
                <a:srgbClr val="99f166"/>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FA71-9EF7-4E7D-8206-FFE6A4E48F7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6F88-10A0-453D-AB44-AD92575810F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92DFC-7BC4-481B-8290-50169B31EEF8}" type="slidenum">
              <a:rPr b="0" lang="fr-FR" sz="1200" spc="-1" strike="noStrike">
                <a:solidFill>
                  <a:srgbClr val="ffffff"/>
                </a:solidFill>
                <a:latin typeface="Arial"/>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C8C1E-A59F-43ED-8226-19EA3A3AF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6D2D5-FDAD-4246-89B8-C574A5C19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DC905-E54E-4886-9E57-0C2E8C690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5E5EA-ECE2-4C2C-8626-426D439FE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76D03-E139-464A-86FF-E4B3678BD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49A24E-C2B4-4D06-B526-C2E17A11E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D123D-B4A7-493D-A4EC-90630A373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1798D-61E9-4914-B1AB-47A7C1F33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36038-C7B4-490F-903D-724B91396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916DA2-5D13-4023-910F-90F01AAD0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A1F7A-7E2B-4F13-A93D-BACF98301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950A8-EC96-466F-AC85-C59D64281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F39A1-79DE-43CA-B289-CFA18C522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ACA5C-6F51-4881-9862-E477613ED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61731-ED4F-465E-AD90-808F4CDD3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F28A1E-19A5-4DD7-BD7E-3BAFAE606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8D762E-8D25-44D6-9441-A0795F722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27D10B-3045-4FFD-BAE5-D44EE06292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A53AF-A167-4F66-AD36-C63C56B3ED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A8D7F-898A-4F1D-9C50-772CED883C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E4FA2-4C96-4B1A-84D8-B11BABA4F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CF7BCA-2955-4D97-A3E3-765981464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DD19F-03A8-4C5D-9C94-C8BC2923B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22B46-A5AF-4938-B9AA-F92BBA4305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300368-DDBA-43C4-9AEB-D4B57212C8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53166-9F7C-4BF1-B6C8-1557A4E91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16C70D-1953-4F5F-8535-B6D98B42D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D24F1-620D-4DC1-BD44-36C8A0364B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8EB10B-CBC2-4730-9B88-537318A907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962E3D-49AF-4F90-B42A-17F84E9EEC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AFFFC2-193E-44F0-8367-DB14F88BDC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69746B-43BE-4E4F-B7D6-A1BF269C3D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1F500E-892F-4BBB-951D-1E3C29CB84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51BEB-B96B-4F1B-9894-B09209630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1880B5-9B45-4119-B16B-BF0E27024D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4977A-A1C5-4C37-AED7-DC21055EA3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91E208-BC8C-4D8C-8E43-CD9ED62452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CFB86-BE68-4CE5-851F-64F5F85841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98DB5D-0FAE-4E69-ABF6-FC71EA2F68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AF58B-2BDE-4D04-BB38-509CF7513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6760CC-AF99-43B1-AB3A-8E7E6EA00C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D15FD8-5FBA-48EC-AC17-CF884B3CE8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C6BE98-BA64-4FBF-97B6-2E71A5CACE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72574C-C407-4A68-950F-1A9D94B13B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9A268-12FC-4CCB-9EE3-C89EB6475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88FD7A-A5EB-4D0E-8776-3BEF513E66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CB8E3E-CD75-4070-9AE6-C874AD4A33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A9FD10-5238-4001-ADAB-F2391737C6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55D228-E373-4F27-B881-1AE86D3DF8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D2971A-381E-4BC2-920F-87AFF41946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1807A8-A162-4BE1-879A-A5B4D8217B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3C6D44-AC59-4126-9644-4AD197BDD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4D17C6-8319-499F-B29C-F6EC5A4BB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4CAE88-D3C8-4AB2-BB7B-46106FD1A1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2D1B32-400C-44AF-8FC6-F8BD6BA71F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DA6BF-A8DD-438F-8E41-7BD03B10C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B78087-7D47-4F3B-9A46-199D120114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7FBBAF-401C-451D-8DAB-1F5F12FAA1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E0A261-45E9-496C-86F2-85E2F176D2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1E9832-6F0A-4F49-BF10-780E474094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11F4D7-CA5F-4B6F-8A67-E6FEEA38B7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88A32A-412C-4609-811A-9DC6EE7503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538FC4-37D6-49A4-8D5A-05FBDB4C5D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BBD71D-D5C5-43B3-854D-34A3FF95C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4B23D3-7351-415C-9527-F787C1A07F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57BF9-DB85-4CE7-81CD-961AD359F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7D300-D378-4AA7-A144-78F45ECAE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2ED05F-1B9D-4384-A98C-9873FB7040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51F94F-024F-4832-854B-E597075B54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B1794F-0B26-4D26-9616-8E1B1B6227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F87856-3E00-467A-A365-FB769D3DC6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9A03F0-263D-4904-9BCD-C8C4F92593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4FF40B-5BEB-4C83-8364-387907760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36A7C7-3477-4335-AF77-F87B39AE57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B53262-A8B6-4656-B402-E834B73ED5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022FC5-8465-40C5-BA95-4711253241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87F061-B5AE-40E9-BABC-8407214EA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964BE-B0D8-4FB5-9001-ECCF78F81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726A3A-8AAD-4F1F-87E4-02C7D1A626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E03E8-1BD4-4145-B2B9-587AC1B85C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4CD1DD-8B53-4150-A1F7-244E821F5B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1A46D3-1B59-4E09-878C-EC064A0D1E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9AC7D9-AC0B-4546-B2A9-FC34874FE8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A75B4C-258E-4F0F-ADEC-22BBFB474D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3E1AA5-1C7E-4D1A-86D4-1A6A1CFACD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40FA3D-C05D-4D82-B05B-A9CC95F092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A08863-87C0-44C5-BB36-9816B591B4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F2B935-D709-4BBF-AD4D-8D1F443CE3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972CD-F897-4A84-9874-8DBEC2F20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9D410E-1269-41A7-9C01-FBCEAF1CE2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914017-CE8A-4733-B77A-6755E093F6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476310-80AF-4B19-BDAA-EC05F3A150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649FE-8F61-4EC2-90B8-A15332E864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B90F95-C7C2-4007-9BCD-4840072574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718DB2-2BEC-48A8-814F-7EB52716D7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1B7100-D7C9-460D-BD54-99B8C7BDD47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2752-0F13-47B0-8241-05B4436A76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F9D35-FC56-44B9-9996-9947C29A8BC1}"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3734-FFE2-4506-9222-B6CC1B3D6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4"/>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5"/>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B5AB-1E9C-45E2-9113-D43B9F1889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2C4D-0845-42FA-A4F1-35D1C440C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CDD5-63B9-49EC-B8AC-994C2B61C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F2C4-7F35-4357-9E5F-BBEA253B7AD1}"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A9C3-6E0F-41D5-9E65-DE13BDA31675}"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536400" y="768240"/>
            <a:ext cx="8326440" cy="1481400"/>
          </a:xfrm>
          <a:prstGeom prst="rect">
            <a:avLst/>
          </a:prstGeom>
          <a:ln w="0">
            <a:noFill/>
          </a:ln>
        </p:spPr>
      </p:pic>
      <p:pic>
        <p:nvPicPr>
          <p:cNvPr id="353" name="Rectangle 3" descr=""/>
          <p:cNvPicPr/>
          <p:nvPr/>
        </p:nvPicPr>
        <p:blipFill>
          <a:blip r:embed="rId2"/>
          <a:stretch/>
        </p:blipFill>
        <p:spPr>
          <a:xfrm>
            <a:off x="536400" y="2170080"/>
            <a:ext cx="8174160" cy="1841400"/>
          </a:xfrm>
          <a:prstGeom prst="rect">
            <a:avLst/>
          </a:prstGeom>
          <a:ln w="0">
            <a:noFill/>
          </a:ln>
        </p:spPr>
      </p:pic>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4343400" y="4572000"/>
            <a:ext cx="3886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AutoShape 1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AutoShape 1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2" name="Picture 20" descr="http://www.mes-vacances.ch/images/photos/7897.jpg"/>
          <p:cNvPicPr/>
          <p:nvPr/>
        </p:nvPicPr>
        <p:blipFill>
          <a:blip r:embed="rId1"/>
          <a:stretch/>
        </p:blipFill>
        <p:spPr>
          <a:xfrm>
            <a:off x="2209680" y="152280"/>
            <a:ext cx="4057920" cy="3048120"/>
          </a:xfrm>
          <a:prstGeom prst="rect">
            <a:avLst/>
          </a:prstGeom>
          <a:ln w="0">
            <a:noFill/>
          </a:ln>
        </p:spPr>
      </p:pic>
      <p:sp>
        <p:nvSpPr>
          <p:cNvPr id="363" name="TextBox 12"/>
          <p:cNvSpPr/>
          <p:nvPr/>
        </p:nvSpPr>
        <p:spPr>
          <a:xfrm>
            <a:off x="1523880" y="3505320"/>
            <a:ext cx="63248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ers</a:t>
            </a:r>
            <a:r>
              <a:rPr b="0" lang="en-US" sz="1800" spc="-1" strike="noStrike">
                <a:solidFill>
                  <a:srgbClr val="ffffff"/>
                </a:solidFill>
                <a:latin typeface="Arial"/>
              </a:rPr>
              <a:t> </a:t>
            </a:r>
            <a:r>
              <a:rPr b="0" lang="fr-FR" sz="1800" spc="-1" strike="noStrike">
                <a:solidFill>
                  <a:srgbClr val="ffffff"/>
                </a:solidFill>
                <a:latin typeface="Arial"/>
              </a:rPr>
              <a:t>Maman</a:t>
            </a:r>
            <a:r>
              <a:rPr b="0" lang="en-US" sz="1800" spc="-1" strike="noStrike">
                <a:solidFill>
                  <a:srgbClr val="ffffff"/>
                </a:solidFill>
                <a:latin typeface="Arial"/>
              </a:rPr>
              <a:t> et Pap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jour! </a:t>
            </a:r>
            <a:r>
              <a:rPr b="0" lang="fr-FR" sz="1800" spc="-1" strike="noStrike">
                <a:solidFill>
                  <a:srgbClr val="ffffff"/>
                </a:solidFill>
                <a:latin typeface="Arial"/>
              </a:rPr>
              <a:t>Aujourd’hui</a:t>
            </a:r>
            <a:r>
              <a:rPr b="0" lang="en-US" sz="1800" spc="-1" strike="noStrike">
                <a:solidFill>
                  <a:srgbClr val="ffffff"/>
                </a:solidFill>
                <a:latin typeface="Arial"/>
              </a:rPr>
              <a:t>, je </a:t>
            </a:r>
            <a:r>
              <a:rPr b="0" lang="fr-FR" sz="1800" spc="-1" strike="noStrike">
                <a:solidFill>
                  <a:srgbClr val="ffffff"/>
                </a:solidFill>
                <a:latin typeface="Arial"/>
              </a:rPr>
              <a:t>suis</a:t>
            </a:r>
            <a:r>
              <a:rPr b="0" lang="en-US" sz="1800" spc="-1" strike="noStrike">
                <a:solidFill>
                  <a:srgbClr val="ffffff"/>
                </a:solidFill>
                <a:latin typeface="Arial"/>
              </a:rPr>
              <a:t> </a:t>
            </a:r>
            <a:r>
              <a:rPr b="0" lang="fr-FR" sz="1800" spc="-1" strike="noStrike">
                <a:solidFill>
                  <a:srgbClr val="ffffff"/>
                </a:solidFill>
                <a:latin typeface="Arial"/>
              </a:rPr>
              <a:t>arrivée à Sainte Luce, Martinique. J’ai fait enregistré à mon hôtel, Hôtel Pierre &amp; Vacances. Après ça, je suis allée nager à la mer. Aussi, j’ai bronzé. Aujourd’hui, je n’ai jamais quitté la station balnéaire. J’ai vu Justin Bieber à mon hôtel! Je vous recommande cet hôtel. Je n’ai pas vu Inna. Je n’ai jamais vu Diamond Falls. Je suis allée Boudreau pour déjeuner. J’ai acheté un t-shirt. Je m’occupée demain! Au revo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Meghan </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Picture 2" descr="C:\Users\Meghan\AppData\Local\Microsoft\Windows\Temporary Internet Files\Low\Content.IE5\FAHIV9DC\WhaleWatching1[1].jpg"/>
          <p:cNvPicPr/>
          <p:nvPr/>
        </p:nvPicPr>
        <p:blipFill>
          <a:blip r:embed="rId1"/>
          <a:stretch/>
        </p:blipFill>
        <p:spPr>
          <a:xfrm>
            <a:off x="1905120" y="152280"/>
            <a:ext cx="4647960" cy="3090960"/>
          </a:xfrm>
          <a:prstGeom prst="rect">
            <a:avLst/>
          </a:prstGeom>
          <a:ln w="0">
            <a:noFill/>
          </a:ln>
        </p:spPr>
      </p:pic>
      <p:sp>
        <p:nvSpPr>
          <p:cNvPr id="365" name="TextBox 3"/>
          <p:cNvSpPr/>
          <p:nvPr/>
        </p:nvSpPr>
        <p:spPr>
          <a:xfrm>
            <a:off x="1447920" y="3657600"/>
            <a:ext cx="60958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ère Mam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lut! Aujourd’hui, je suis allée chercher-baleine. Je suis allée sur un catamaran. J’y suis allée pour trois heures. Sur le catamaran, j’ai vu Brenna. Je n’ai pas vu Taylor Swift. Après ça, je suis allée à la plage. J’ai pris des leçons de la planche à voile. Je n’ai jamais vu un requin. J’ai un autre leçon demain. Je suis excité!  Je suis allée Château Mygo pour diner. Je vous recommande ce restaurant. J’ai acheté une porte-clés. Au revo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Meghan</a:t>
            </a:r>
            <a:endParaRPr b="0" lang="en-US" sz="1800" spc="-1" strike="noStrike">
              <a:solidFill>
                <a:srgbClr val="ffffff"/>
              </a:solidFill>
              <a:latin typeface="Arial"/>
            </a:endParaRPr>
          </a:p>
        </p:txBody>
      </p:sp>
    </p:spTree>
  </p:cSld>
  <p:transition>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3" descr="C:\Users\Meghan\AppData\Local\Microsoft\Windows\Temporary Internet Files\Low\Content.IE5\FAHIV9DC\cruise[1].jpg"/>
          <p:cNvPicPr/>
          <p:nvPr/>
        </p:nvPicPr>
        <p:blipFill>
          <a:blip r:embed="rId1"/>
          <a:stretch/>
        </p:blipFill>
        <p:spPr>
          <a:xfrm>
            <a:off x="2133720" y="152280"/>
            <a:ext cx="4662360" cy="3124440"/>
          </a:xfrm>
          <a:prstGeom prst="rect">
            <a:avLst/>
          </a:prstGeom>
          <a:ln w="0">
            <a:noFill/>
          </a:ln>
        </p:spPr>
      </p:pic>
      <p:sp>
        <p:nvSpPr>
          <p:cNvPr id="367" name="TextBox 3"/>
          <p:cNvSpPr/>
          <p:nvPr/>
        </p:nvSpPr>
        <p:spPr>
          <a:xfrm>
            <a:off x="1447920" y="3441600"/>
            <a:ext cx="6019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er Pap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lut! Je me suis occupée aujourd’hui. Ce matin, j’ai pris mon leçon seconde de planche à voile. Après ça, j’ai fait une croisière de Martinique sur un catamaran. Cette, j’ai fait le shopping et fait du plongée libre à Castries, la capitale. Je n’ai pas vu Isabel, et j’ai vu Taylor Swift! Je vous recommande cette croisière.  Je suis allée The Coal Pot, un restaurant à Castries. J’ai acheté des vêtements à Castries. Je n’ai jamais vu Les Pitons. Je voudrais voir les montagnes demain. Au revo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Meghan</a:t>
            </a:r>
            <a:endParaRPr b="0" lang="en-US" sz="1800" spc="-1" strike="noStrike">
              <a:solidFill>
                <a:srgbClr val="ffffff"/>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Users\Meghan\AppData\Local\Microsoft\Windows\Temporary Internet Files\Low\Content.IE5\K7HSFZD5\postcard[1].jpg"/>
          <p:cNvPicPr/>
          <p:nvPr/>
        </p:nvPicPr>
        <p:blipFill>
          <a:blip r:embed="rId1"/>
          <a:stretch/>
        </p:blipFill>
        <p:spPr>
          <a:xfrm>
            <a:off x="2209680" y="228600"/>
            <a:ext cx="4305600" cy="3228840"/>
          </a:xfrm>
          <a:prstGeom prst="rect">
            <a:avLst/>
          </a:prstGeom>
          <a:ln w="0">
            <a:noFill/>
          </a:ln>
        </p:spPr>
      </p:pic>
      <p:sp>
        <p:nvSpPr>
          <p:cNvPr id="369" name="TextBox 3"/>
          <p:cNvSpPr/>
          <p:nvPr/>
        </p:nvSpPr>
        <p:spPr>
          <a:xfrm>
            <a:off x="1523880" y="3809880"/>
            <a:ext cx="57913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ère In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lut! Aujourd’hui, j’ai voulu Les Pitons. Aussi, je suis allée à la plage. Ensuite, j’ai fait du kayak de mer. Je n’ai jamais vu Guadaloupe. Je n’ai pas vu Olivia, et j’ai vu « One Direction ». Aussi, à la plage, je suis allée sur un jet ski. Je me suis amusée! Je suis allée The Charthouse pour diner. Je vous recommande ce restaurant. J’ai acheté un sweat-shirt. Je vais partir après deux jours plus. A bientô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Meghan</a:t>
            </a:r>
            <a:endParaRPr b="0" lang="en-US" sz="1800" spc="-1" strike="noStrike">
              <a:solidFill>
                <a:srgbClr val="ffffff"/>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C:\Users\Meghan\AppData\Local\Microsoft\Windows\Temporary Internet Files\Low\Content.IE5\I24MOYH2\rainforests[1].jpg"/>
          <p:cNvPicPr/>
          <p:nvPr/>
        </p:nvPicPr>
        <p:blipFill>
          <a:blip r:embed="rId1"/>
          <a:stretch/>
        </p:blipFill>
        <p:spPr>
          <a:xfrm>
            <a:off x="2362320" y="304920"/>
            <a:ext cx="3952800" cy="3162240"/>
          </a:xfrm>
          <a:prstGeom prst="rect">
            <a:avLst/>
          </a:prstGeom>
          <a:ln w="0">
            <a:noFill/>
          </a:ln>
        </p:spPr>
      </p:pic>
      <p:sp>
        <p:nvSpPr>
          <p:cNvPr id="371" name="TextBox 3"/>
          <p:cNvSpPr/>
          <p:nvPr/>
        </p:nvSpPr>
        <p:spPr>
          <a:xfrm>
            <a:off x="1447920" y="3733920"/>
            <a:ext cx="5867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Chère Oliv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lut! Mon voyage a été tellement amusant! Aujourd’hui a été mon dernière journée. Je suis allée à un tour du bois tropicale. J’ai vu les touristes, et je n’ai pas vu mes sœurs. Je n’ai jamais vu une chute. Je vous recommande ce tour. Je suis allée Apsara pour le petit- déjeuner. J’ai acheté un tasse. Aujourd’hui, j’ai eu faire les valises. J’ai été triste à partir. À dema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a:t>
            </a:r>
            <a:r>
              <a:rPr b="0" lang="fr-FR" sz="1800" spc="-1" strike="noStrike">
                <a:solidFill>
                  <a:srgbClr val="ffffff"/>
                </a:solidFill>
                <a:latin typeface="Arial"/>
              </a:rPr>
              <a:t>Meghan </a:t>
            </a:r>
            <a:endParaRPr b="0" lang="en-US" sz="1800" spc="-1" strike="noStrike">
              <a:solidFill>
                <a:srgbClr val="ffffff"/>
              </a:solidFill>
              <a:latin typeface="Arial"/>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3T13:31:35Z</dcterms:created>
  <dc:creator>hurleymeg</dc:creator>
  <dc:description/>
  <dc:language>en-US</dc:language>
  <cp:lastModifiedBy>Meghan</cp:lastModifiedBy>
  <dcterms:modified xsi:type="dcterms:W3CDTF">2012-02-05T22:53:30Z</dcterms:modified>
  <cp:revision>20</cp:revision>
  <dc:subject/>
  <dc:title>Des Cartes Postales</dc:title>
</cp:coreProperties>
</file>